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A1A1-6F22-4BAB-BEC9-FA79F26D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7F4-0AE2-4510-957D-A331C63D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B2C5-1AC0-487E-BCB1-8066EF06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C0D-F052-4FBF-8DAF-F7AD8076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D47-13EF-4291-8304-CE7F39B4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DBC-C68C-469F-9813-93471DDE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9FB-4233-4B27-ACFD-5302E01F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1B6-4293-437A-A456-78FF096B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2F5-2D8B-482F-82ED-C9CDB237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69D-CADE-4DA7-8B4C-329EF8A9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59B-5612-4752-B577-A9B6B6F4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9C8-C845-4B67-91CA-11A3F3E6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3D0A-E8B1-45AC-8F83-4C970289D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664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696000" cy="4954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887400"/>
            <a:ext cx="7129440" cy="5162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89640" cy="4095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5640" y="260280"/>
          <a:ext cx="7488360" cy="6384960"/>
        </p:xfrm>
        <a:graphic>
          <a:graphicData uri="http://schemas.openxmlformats.org/drawingml/2006/table">
            <a:tbl>
              <a:tblPr/>
              <a:tblGrid>
                <a:gridCol w="387360"/>
                <a:gridCol w="7101000"/>
              </a:tblGrid>
              <a:tr h="63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THOSE WINTER SUN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Sundays too my father got up earl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And put his clothes on in the blueback cold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then with cracked hands that ache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from labor in the weekday weather mad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banked fires blaze. No one ever thanked him.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I'd wake and hear the cold splintering, breaking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When the rooms were warm, he'd call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and slowly I would rise and dres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fearing the chronic angers of that house,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Speaking indifferently to him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who had driven out the col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and polished my good shoes as well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What did I know, what did I know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of love's austere and lonely offices?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en-US" sz="15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Robert Hayden </a:t>
                      </a:r>
                      <a:br>
                        <a:rPr sz="10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5:14:53Z</dcterms:created>
  <dc:creator>dhobbs</dc:creator>
  <dc:description/>
  <dc:language>en-US</dc:language>
  <cp:lastModifiedBy>dhobbs</cp:lastModifiedBy>
  <dcterms:modified xsi:type="dcterms:W3CDTF">2010-03-12T07:05:55Z</dcterms:modified>
  <cp:revision>3</cp:revision>
  <dc:subject/>
  <dc:title>Slide 1</dc:title>
</cp:coreProperties>
</file>